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E797-DA91-424B-8ED8-FAC119C99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34FE-8D77-455C-B9C9-EEBDD9151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A6CF-1C06-475B-94FE-6BF23D702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9FD3-EA28-4B6C-B5D3-409EBA6CD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79BD-C433-462C-B7B9-F459171B7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DD16B-72B1-40C9-94B3-7661C2A602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DB6DA-8F10-4812-929D-A51CCB187C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F12E5-0571-4F9A-8997-B719B6872C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BCFED-E59E-4FC6-BC90-E9853CE39F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701AE-5229-4373-95CA-55C0A6D1D6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6C084-DB66-46B0-8B0A-5B868E4343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D5D89-6055-4CD7-B294-67FECDEB6C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7AB4A-66ED-43FE-91FD-4050AC1D51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B8261-8474-43D4-8302-9B687D5569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EE6FA-14E0-4AD4-B541-E57E6675C0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3B42E-0595-4A38-8878-51E467D429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490C2-0F5C-47D2-89C6-73DF96F8C5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5B07-2656-4BE3-B3CE-E8FF49DD6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5T12:39:23Z</dcterms:modified>
  <cp:revision>85</cp:revision>
  <dc:subject/>
  <dc:title>AT Basic System Example</dc:title>
</cp:coreProperties>
</file>