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39475-E3EA-4819-A6B7-1549239B42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8E3B3-69E8-417F-95BF-103E7616EC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36233-083B-4527-BB6F-BE0B1229B7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6986C-7956-43FD-813A-0AE2A4F88F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F73BB-BD50-44FF-9D37-17D6AE67BC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ED4AE-3C58-4553-A431-E997C8A4AC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9FA4C-EFEF-4F8C-A365-3F64DE3AC9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26632-37F3-4741-A93D-27DABE7711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86414-8AF4-4992-A41F-93730473AC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4B3F9-341D-4F09-9941-A1D8807982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93FA2-56DA-43BC-B1F6-046048E7D4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B00C3-37A9-4D2A-8EE4-15D4D9473F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2BFCF-5E5B-484C-87AB-5465CE6F48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F6B7C-CE61-40B9-B93D-BB312A2C15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E1BBF-167E-4174-A83F-F090897A20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21465-80C7-4AE6-BD98-985D3B6770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C42F4-7929-43D6-BF33-B2B168277E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6C560-4B1E-432C-BB4B-CA7620A915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-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071000" y="1027080"/>
            <a:ext cx="4937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or: 102 starting new 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: select_initiator.cpp: 2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or: 102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123200" y="1647720"/>
            <a:ext cx="50850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: at_target_4_phase.cpp: 4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rget: 201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: report.cpp: 4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: at_target_4_phase.cpp: 4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rget: 201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or: 102 nb_transport_bw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: select_initiator.cpp: 5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: select_initiator.cpp: 5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Jack Donovan</cp:lastModifiedBy>
  <cp:lastPrinted>2008-06-04T21:18:56Z</cp:lastPrinted>
  <dcterms:modified xsi:type="dcterms:W3CDTF">2008-06-04T21:38:24Z</dcterms:modified>
  <cp:revision>84</cp:revision>
  <dc:subject/>
  <dc:title>AT Basic System Example</dc:title>
</cp:coreProperties>
</file>