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C0F6-4B2E-4987-9763-D70B07EFE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D624-567A-4D58-87A0-2C5F72E8C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5D56-80C7-4E00-8772-35D701A97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400A-94C9-4783-9C2C-34AAEF623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60D5-13ED-474A-8995-3E5339A1F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DCBA8-5351-48F5-9671-3C4E9C4B2A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00562-B593-453B-8202-AFFA5C66B3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ADA7A-20E4-4097-B050-E352347B02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B6B43-DF3F-4325-B309-98A796BF8F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61A45-EB5A-4C06-BD13-BAC2AED879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A90BF-21C3-4061-854C-881359557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49B43-E5EF-487E-B550-CFD1BC13C3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1A29A-7F13-407D-BBDD-B0886249FA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737E9-CAE0-4CBB-AD0E-5BCE9EF987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9DAA3-538E-4488-8EAB-1C79D8E15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F400F-77D9-471E-A6BA-53E4381227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41ABA-07F7-43F8-B57B-22EF6DB88D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5F55-3545-4D2B-8718-02878CA74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72160" y="863640"/>
            <a:ext cx="59047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2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2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3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06360" y="860400"/>
            <a:ext cx="57373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7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bw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8-06-04T21:41:17Z</dcterms:modified>
  <cp:revision>88</cp:revision>
  <dc:subject/>
  <dc:title>AT Basic System Example</dc:title>
</cp:coreProperties>
</file>