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B08A3-AD96-408A-A6C0-8CE3A2AAF2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63BE1-40DA-4B79-8817-8710A08C22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16B7C-2B55-4E4F-8D21-28D61232B1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B7E1B-C4A9-4D5C-B774-5DF19757D8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B4519-042A-4616-9972-342E263338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876F2-ACFD-4830-AF74-C8B01F1BB2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E90F6-F024-43E2-ACE5-A38CCE4C2E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63BC2-76F4-42EB-9894-97D3DC566A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978AD-6D70-43FE-8F47-80A01BBC67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FEB13-EB41-4534-9C8F-A7CE1767C2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F1C33-4B4A-418F-A396-674B2FAF43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A94DF-8C5D-4855-84FE-46644E12A5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9EB50-FEE4-4C2C-BABB-1E39CD90FF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D8305-56CB-4AD2-901B-D95CACA376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6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7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8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9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2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3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4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5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6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0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1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2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5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6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7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0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1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3" name=""/>
            <p:cNvCxnSpPr>
              <a:stCxn id="28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5" name=""/>
            <p:cNvCxnSpPr>
              <a:endCxn id="28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7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9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0" name=""/>
            <p:cNvCxnSpPr>
              <a:stCxn id="28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1" name=""/>
            <p:cNvCxnSpPr>
              <a:stCxn id="28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2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3" name=""/>
            <p:cNvCxnSpPr>
              <a:stCxn id="29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4" name=""/>
            <p:cNvCxnSpPr>
              <a:stCxn id="29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5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6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0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4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8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and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4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7" idx="0"/>
            <a:endCxn id="13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40" idx="2"/>
            <a:endCxn id="14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2" name=""/>
          <p:cNvCxnSpPr>
            <a:stCxn id="140" idx="0"/>
            <a:endCxn id="14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4" name=""/>
          <p:cNvCxnSpPr>
            <a:stCxn id="145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6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8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49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52" idx="2"/>
            <a:endCxn id="15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"/>
          <p:cNvCxnSpPr>
            <a:stCxn id="152" idx="0"/>
            <a:endCxn id="15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5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8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59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1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4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6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7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8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1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2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3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4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7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8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9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2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"/>
          <p:cNvCxnSpPr>
            <a:stCxn id="185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7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"/>
          <p:cNvCxnSpPr>
            <a:stCxn id="236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"/>
          <p:cNvCxnSpPr>
            <a:stCxn id="237" idx="1"/>
            <a:endCxn id="236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39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0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"/>
          <p:cNvCxnSpPr>
            <a:stCxn id="242" idx="1"/>
            <a:endCxn id="236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5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Jack Donovan</cp:lastModifiedBy>
  <dcterms:modified xsi:type="dcterms:W3CDTF">2008-06-05T21:45:26Z</dcterms:modified>
  <cp:revision>77</cp:revision>
  <dc:subject/>
  <dc:title>AT Basic System Example</dc:title>
</cp:coreProperties>
</file>