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8520" cy="33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6142E-1FC0-4162-97F9-9F122FE6C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15C05-E001-41C4-B3C6-88E6005DB8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3DB0A-6EA2-4122-8026-06B04084A2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755AA-C669-4294-96DC-3B770252C2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AB4DA-8039-4402-A1A6-3B4B2DE2C1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E83E7-BCAE-459A-841A-BCD101801F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54D4E-C592-4612-BC08-6007946956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528C5-B5AE-4AB9-AEFE-C77C44B09A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4F676-5A60-420B-9F5C-6D1D8B77B1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34A23-3761-4FDB-908C-7DB94D0C34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0D382-FF62-4D21-9410-4FFE12B591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8682A-7EB0-4B12-AE19-830F6986EA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590D6-0BD3-4B90-9105-2CBF1CF348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6DB71-273C-4261-868D-F1359FD634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8070A-CDFA-4AC3-8A14-F1F57A1253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D1099-DD14-4E70-9595-24C18B6BA6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8A81D-1CDC-453E-97BE-A0E6FED593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5A60B-F61E-4486-B350-9F2F3BF98E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64ECB-74C2-4883-A353-169A88AFCC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26D39-7C10-422A-A117-59E5529BDB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AF154-E1EB-40A2-BD39-D5F27989F8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FED4F-8E7F-4610-B226-C4A44F9C8D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1E473-8EC7-4C44-9D2C-53B4E7B48F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AF40D-86AB-4E80-B0C2-5AFAE2F5F4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28D69-EA6D-4512-BD01-AE24223617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D4F24-ADE3-40F2-814B-D791548A0E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7BCFD-16F3-465D-8763-85D2FDFE0C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0FACA-D922-4DA2-8422-7A771C92FE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CB36A-513C-4266-8A05-A134519362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57BC-13B9-4D36-B143-ED8099163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09E5A-6B3D-4E59-AA4F-8492AE26E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E8F2C-E748-4FCE-9F47-772A37B66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4A6E-67BE-4924-8FC1-8546A1349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2672E-DD36-4E77-815C-07E9C72CB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AFAC-037A-4D18-A543-540737AC9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E03A5-C8FD-4CEF-B68E-7C2CA4E96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AF19B-5E8E-4D57-B6AA-33E1A46A2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51985-20D5-4F41-8A8B-2139A1CFB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6A5C2-715D-42FC-96FA-7DD8D4CBB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F63CF-45F6-4FAE-8851-2BB0EE5ED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770C-5D3F-45A2-BA45-3F2803A9C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0EBA6-549D-46E6-B72C-2B6782FFDA5B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r Defined Data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rish Verma, P V S Phanee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38D9B-C03B-4663-B10B-60C71589A2BF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533412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96252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505320" y="106668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3962520" y="2362320"/>
            <a:ext cx="495288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4038480" y="3200400"/>
            <a:ext cx="449604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Documentation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1676520" y="273204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5088" y="3600"/>
                </a:lnTo>
                <a:lnTo>
                  <a:pt x="-5088" y="-3350"/>
                </a:lnTo>
                <a:lnTo>
                  <a:pt x="25667" y="-4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505320" y="3962520"/>
            <a:ext cx="914400" cy="3045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3429000" y="4343400"/>
            <a:ext cx="563868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set_string "{\"s_address\":1024,\"d_address\":1280,\"index\":3}");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set_cci_value(cci::cci_value::from_json(set_string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533520" y="5041800"/>
            <a:ext cx="2819160" cy="6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68"/>
                </a:moveTo>
                <a:lnTo>
                  <a:pt x="-2104" y="3668"/>
                </a:lnTo>
                <a:lnTo>
                  <a:pt x="-2104" y="-3617"/>
                </a:lnTo>
                <a:lnTo>
                  <a:pt x="22962" y="-4687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75291-370D-41F2-819F-CF252FE6CA52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548640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276720" y="114300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8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88620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886200" y="2286000"/>
            <a:ext cx="510552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1024,"d_address":1280,"index":3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676520" y="266688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5667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16_User_Defined_Data_Typ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preset value 's_address:256,d_address:512,index:0' to UD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{"s_address":512,"d_address":768,"index":1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Value' : {"s_address":256,"d_address":512,"index":0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 - '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Description 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New Value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's_address:768,d_address:1024,index:2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[OWNER -&gt; Retrieve] : UDT Value 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@ 4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value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desc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Value - 's_address:1024,d_address:1280,index: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@ 8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value: {"s_address":1024,"d_address":1280,"index":3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0C5CA-3B3D-4687-AC83-CDB225041CC8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ing support for user-defined data types, including complex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how access using both JSON values and cci_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349A1-B800-42CE-9601-3B0C025770A2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019920" y="2209680"/>
            <a:ext cx="213336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2365"/>
              <a:gd name="adj5" fmla="val -128597"/>
              <a:gd name="adj6" fmla="val -62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A simple C++ class, not an SC_MODUL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895480" y="2270160"/>
            <a:ext cx="20574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703"/>
              <a:gd name="adj5" fmla="val -36365"/>
              <a:gd name="adj6" fmla="val -12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152280" y="3738600"/>
            <a:ext cx="5257800" cy="7621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please go through the            presentation for ex#8 or ex#11 and ex#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5638680" y="3390840"/>
            <a:ext cx="304812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40" y="2234"/>
                </a:moveTo>
                <a:lnTo>
                  <a:pt x="22286" y="2234"/>
                </a:lnTo>
                <a:lnTo>
                  <a:pt x="22286" y="-5617"/>
                </a:lnTo>
                <a:lnTo>
                  <a:pt x="18326" y="-1346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different types of callbacks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(pre_read, pre_write &amp; post_write)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on the parameters of interest to monitor their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152280" y="5408640"/>
            <a:ext cx="44197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b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displayed by the shape on th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518148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3600"/>
                </a:moveTo>
                <a:lnTo>
                  <a:pt x="-4230" y="3600"/>
                </a:lnTo>
                <a:lnTo>
                  <a:pt x="-4230" y="100"/>
                </a:lnTo>
                <a:lnTo>
                  <a:pt x="3630" y="-7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152280" y="2514600"/>
            <a:ext cx="2057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2115"/>
              <a:gd name="adj5" fmla="val -89064"/>
              <a:gd name="adj6" fmla="val 11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th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_datatype.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3"/>
          <p:cNvSpPr/>
          <p:nvPr/>
        </p:nvSpPr>
        <p:spPr>
          <a:xfrm>
            <a:off x="152280" y="4619520"/>
            <a:ext cx="4114800" cy="533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ev.originator.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639BA-1657-42F2-810E-4BC24699EB51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22200" y="985680"/>
            <a:ext cx="56800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tep#1</a:t>
            </a:r>
            <a:r>
              <a:rPr b="1" lang="en-US" sz="20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2000" spc="-1" strike="noStrike">
                <a:solidFill>
                  <a:srgbClr val="000000"/>
                </a:solidFill>
                <a:latin typeface="Bitstream Charter"/>
              </a:rPr>
              <a:t>Defining a User-Defined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07880" y="1895400"/>
            <a:ext cx="7696440" cy="2971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clare a C++ class/structure for the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(see the following sli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reate a default constructor for the user-defined data type 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Also provide an overloaded constructor that is useful to assign the user-defined values in the desired man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Implement cci_value_converter&lt;user-defined-type&gt; with pack and unpack functions (not shown – see example co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load the insertion (&lt;&lt;) operator to provide convenience in repor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D8247-4A03-49A0-9643-096D505780D9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380880" y="685800"/>
            <a:ext cx="7543800" cy="3808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frastructure to be created :  Creating Data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85800" y="1143000"/>
            <a:ext cx="3886200" cy="4952880"/>
          </a:xfrm>
          <a:custGeom>
            <a:avLst/>
            <a:gdLst>
              <a:gd name="textAreaLeft" fmla="*/ 3600 w 3886200"/>
              <a:gd name="textAreaRight" fmla="*/ 3882600 w 3886200"/>
              <a:gd name="textAreaTop" fmla="*/ 3600 h 4952880"/>
              <a:gd name="textAreaBottom" fmla="*/ 4949280 h 4952880"/>
            </a:gdLst>
            <a:ahLst/>
            <a:rect l="textAreaLeft" t="textAreaTop" r="textAreaRight" b="textAreaBottom"/>
            <a:pathLst>
              <a:path w="21600" h="27528">
                <a:moveTo>
                  <a:pt x="75" y="0"/>
                </a:moveTo>
                <a:arcTo wR="75" hR="75" stAng="16200000" swAng="-5400000"/>
                <a:lnTo>
                  <a:pt x="0" y="27453"/>
                </a:lnTo>
                <a:arcTo wR="75" hR="75" stAng="10800000" swAng="-5400000"/>
                <a:lnTo>
                  <a:pt x="21525" y="27528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uct route_table_u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Default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Sourc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//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Overloaded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int saddr, int daddr, int 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s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d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s_address;     // Slav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d_address;    // 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index;           // 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;// End of STRUC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8489C-9D2A-4A11-8A58-C0C088C94602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247680" y="876240"/>
            <a:ext cx="50292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Overloading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ser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 operator of C+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07880" y="1600200"/>
            <a:ext cx="6907320" cy="44197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td::ostream&amp; operator &lt;&lt;(std::ostream&amp; os, const route_table_ut&amp; ud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cci::cci_value udv(ud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eturn os &lt;&lt; udv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085FB-23B5-45F6-854B-ADC5DDE7B0B6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63720" y="49100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5611680" y="4373640"/>
            <a:ext cx="3303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2960" y="448164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2287440" y="3941640"/>
            <a:ext cx="45720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Before the instantiation of the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182680" y="1905120"/>
            <a:ext cx="5024520" cy="10350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yOriginato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1824120" y="1219320"/>
            <a:ext cx="5489640" cy="563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yOriginator(“sc_main_originato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366920" y="3048120"/>
            <a:ext cx="6786360" cy="914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preset value using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et_preset_value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PI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init_str("{\"s_address\":256,\"d_address\":512,\"index\":0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globalBroker.set_preset_cci_value(“param_owner.User_data_type_param”, cci::cci_value::from_json(init_str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335720" y="491184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2362320" y="4952880"/>
            <a:ext cx="4662360" cy="103032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obj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49999-7D27-478C-B92A-E6708A503AD9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"/>
          <p:cNvSpPr/>
          <p:nvPr/>
        </p:nvSpPr>
        <p:spPr>
          <a:xfrm>
            <a:off x="323208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"/>
          <p:cNvSpPr/>
          <p:nvPr/>
        </p:nvSpPr>
        <p:spPr>
          <a:xfrm>
            <a:off x="498168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38096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04920" y="1550880"/>
            <a:ext cx="510516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ame and assign defaul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("User_data_type_param",route_table_ut(0x200,0x300,1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343400" y="2313000"/>
            <a:ext cx="1511280" cy="22860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04920" y="345600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_default_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faul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512,"d_address":768,"index":1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04920" y="5132520"/>
            <a:ext cx="5029200" cy="68580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Set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onst std::string init_desc = “This is user-defined data type”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udt_param.set_description(init_desc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701352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5504040" y="4827600"/>
            <a:ext cx="3563640" cy="76212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Declare handle for the parame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udt_param_handl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309600" y="1246320"/>
            <a:ext cx="3881520" cy="2286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i::cci_param&lt;route_table_ut&gt; udt_para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304920" y="2693880"/>
            <a:ext cx="449568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 nam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Nam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304920" y="429408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256,"d_address":512,"index":0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9365E-9584-4EB2-BDC8-BDBB5463F4E3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"/>
          <p:cNvSpPr/>
          <p:nvPr/>
        </p:nvSpPr>
        <p:spPr>
          <a:xfrm>
            <a:off x="323208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525780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38096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701352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380880" y="1527120"/>
            <a:ext cx="4496040" cy="85428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Documentation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380880" y="2533680"/>
            <a:ext cx="617220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set_cci_value("{\"s_address\":768,\"d_address\":1024,\"index\":2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4800600" y="337176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4850"/>
                </a:lnTo>
                <a:lnTo>
                  <a:pt x="12077" y="-85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1162080"/>
            <a:ext cx="181620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3962520" y="4362480"/>
            <a:ext cx="181584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380880" y="4803840"/>
            <a:ext cx="4800600" cy="8539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the presen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5562720" y="4514760"/>
            <a:ext cx="22096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45" y="3600"/>
                </a:moveTo>
                <a:lnTo>
                  <a:pt x="31934" y="3600"/>
                </a:lnTo>
                <a:lnTo>
                  <a:pt x="31934" y="25650"/>
                </a:lnTo>
                <a:lnTo>
                  <a:pt x="-33992" y="2579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00:40:22Z</dcterms:modified>
  <cp:revision>66</cp:revision>
  <dc:subject/>
  <dc:title>ex16_User_Defined_Data_Ty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40:21Z</vt:lpwstr>
  </property>
  <property fmtid="{D5CDD505-2E9C-101B-9397-08002B2CF9AE}" pid="5" name="TitusGUID">
    <vt:lpwstr>fc8b835a-1d3c-4a78-8f66-3d525973a8b0</vt:lpwstr>
  </property>
</Properties>
</file>