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4E620-FE92-4DFA-BDF4-C810ED3B3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22AC3-C04B-4468-9034-8B2B64159B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E95D9-BF15-4893-A17B-493AF363C5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0C7C8-6001-4BEA-9B06-561C80F215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FFF1D-7E4B-41CD-9C56-956DC21C1D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76B4D-8080-4EB9-BFC3-8128F55C7D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2B7C8-BBC3-450B-BA3A-5F26C09DC6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EF623-9C2E-44A1-B901-AF5D49E085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5BA4C-18CD-4ADD-89A6-9ED1FCC69C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98A37-6F29-4C1E-ACA5-CCF9FBEC93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5B916-6864-459C-AF3E-04309EA3B4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2086F-DBCE-4A2A-A6A6-A374CD0173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345C1-CAFE-4784-ABC4-C619FA628E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6F70D-6195-4E8B-BE57-1C3CEEB8B1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BA76E-8BA0-4235-964D-C26EF8D67E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93049-B1FC-48DB-95F3-38DE23E475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9D652-226C-4601-B036-8EF1994301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F4541-E348-4FA0-ACAD-71924D96B1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CB7F8-CC97-4BEA-8C8F-166A1C751A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826F0-955E-4A6B-826C-E5C4485AEC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C859F-140F-46EE-B415-15D64EBB50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6E005-9A0D-470E-B7AA-348BFB8FC1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91B5F3-3DA0-48F4-BC82-1F64657AF5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321EA-0017-4013-B5E5-D30DD64CA0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4C184-F3E1-4DA3-9945-CC2EB87E85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05721-38A0-4527-9EDF-EBF7AA9727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79DF8-159C-45D5-85A4-D64FBEFCBC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B00A5-1BCA-4387-931C-9E16A624A0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A7E63-738D-4673-94CB-CB7657A068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59577-0DD6-4ECA-BBF5-91EA9C0F16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E629B-A4FE-44A0-96FA-F76EA23BB0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28BE1-FA70-423D-AF67-B97C5595C9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D344D-5D9E-4154-B0C7-A0531B1D9A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67747-3429-4FC6-A55C-EF1F39E3DD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5E857-8903-411E-855B-68538C4555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8C6D6-5390-4CD6-8B47-992A09AD6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14554-3827-4A5C-A669-63F52E4AFE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C1500-9381-45B3-A2F0-4C7B291DD7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067D7-124C-423C-BEDD-05312E00E4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F71B8-100B-43BE-A11E-FA366CE46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87C134-938B-409B-AF96-7076DF9EF6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Hiding Parameter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20 ns, [PARENT - post_write_cb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@ 2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[CHILD] : Parameter Name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1"/>
          <p:cNvSpPr/>
          <p:nvPr/>
        </p:nvSpPr>
        <p:spPr>
          <a:xfrm>
            <a:off x="554040" y="228600"/>
            <a:ext cx="7940520" cy="617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d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tructing and activating a private broker to restrict access to the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example also exhibits the ability to manage complex interdependencies as described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Hid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C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Explan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mall subsystem (parent and child module) are wrapped within a module (ex14_private) to control visibility of the contained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rapper makes it easy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 scope of the private broker as the entire sub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exceptions (parameters to be exposed) prior to construction of any subsystem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the subsystem doesn’t need to be modified itself to make this happ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0"/>
          <p:cNvGrpSpPr/>
          <p:nvPr/>
        </p:nvGrpSpPr>
        <p:grpSpPr>
          <a:xfrm>
            <a:off x="1117440" y="2116080"/>
            <a:ext cx="6933960" cy="3827160"/>
            <a:chOff x="1117440" y="2116080"/>
            <a:chExt cx="6933960" cy="3827160"/>
          </a:xfrm>
        </p:grpSpPr>
        <p:sp>
          <p:nvSpPr>
            <p:cNvPr id="145" name="Rectangle 11"/>
            <p:cNvSpPr/>
            <p:nvPr/>
          </p:nvSpPr>
          <p:spPr>
            <a:xfrm>
              <a:off x="1117440" y="2247480"/>
              <a:ext cx="6933960" cy="36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" name="AutoShape 12"/>
            <p:cNvSpPr/>
            <p:nvPr/>
          </p:nvSpPr>
          <p:spPr>
            <a:xfrm>
              <a:off x="3897360" y="2116080"/>
              <a:ext cx="1375560" cy="2617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rappe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7" name="Rectangle 2"/>
          <p:cNvSpPr/>
          <p:nvPr/>
        </p:nvSpPr>
        <p:spPr>
          <a:xfrm>
            <a:off x="533520" y="758880"/>
            <a:ext cx="815328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752480" y="3798720"/>
            <a:ext cx="5257800" cy="19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9" name="Group 10"/>
          <p:cNvGrpSpPr/>
          <p:nvPr/>
        </p:nvGrpSpPr>
        <p:grpSpPr>
          <a:xfrm>
            <a:off x="1143000" y="1149480"/>
            <a:ext cx="6933960" cy="774360"/>
            <a:chOff x="1143000" y="1149480"/>
            <a:chExt cx="6933960" cy="774360"/>
          </a:xfrm>
        </p:grpSpPr>
        <p:sp>
          <p:nvSpPr>
            <p:cNvPr id="150" name="Rectangle 11"/>
            <p:cNvSpPr/>
            <p:nvPr/>
          </p:nvSpPr>
          <p:spPr>
            <a:xfrm>
              <a:off x="1143000" y="1280880"/>
              <a:ext cx="6933960" cy="64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1" name="AutoShape 12"/>
            <p:cNvSpPr/>
            <p:nvPr/>
          </p:nvSpPr>
          <p:spPr>
            <a:xfrm>
              <a:off x="3922920" y="1149480"/>
              <a:ext cx="1375560" cy="2620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52" name="AutoShape 3"/>
          <p:cNvSpPr/>
          <p:nvPr/>
        </p:nvSpPr>
        <p:spPr>
          <a:xfrm>
            <a:off x="3767040" y="623880"/>
            <a:ext cx="1600200" cy="2714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2039760" y="1496880"/>
            <a:ext cx="502920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nitialize handle to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parent_i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parameter of the PAREN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2133720" y="3819600"/>
            <a:ext cx="45720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nstantiate the </a:t>
            </a: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hild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module : 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hild_inst(“child_inst”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structs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parameters as shown below: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int_param(“parent_int_param”, 30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buffer(“parent_int_buffer”, 35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2044800" y="5324400"/>
            <a:ext cx="487656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riv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0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ub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5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Rectangle 2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011480" y="488160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il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1636560" y="2625840"/>
            <a:ext cx="4572000" cy="88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nitialize and register a private broker of type cci_utils::broker (pbroker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dentify in advance the parameters to be exposed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parent_int_buffer");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child_inst.pub_int_param"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Then instantiate the parent modul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_parent_inst = new ex14_parent(“parent_inst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2197080" y="5013360"/>
            <a:ext cx="4572000" cy="61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4079880" y="366696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163" name="Rectangle 3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4" name="AutoShape 4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5" name="Group 5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sp>
          <p:nvSpPr>
            <p:cNvPr id="166" name="Rectangle 6"/>
            <p:cNvSpPr/>
            <p:nvPr/>
          </p:nvSpPr>
          <p:spPr>
            <a:xfrm>
              <a:off x="1219320" y="295740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2891160" y="281952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8" name="Group 8"/>
          <p:cNvGrpSpPr/>
          <p:nvPr/>
        </p:nvGrpSpPr>
        <p:grpSpPr>
          <a:xfrm>
            <a:off x="1600200" y="4572000"/>
            <a:ext cx="6323400" cy="990360"/>
            <a:chOff x="1600200" y="4572000"/>
            <a:chExt cx="6323400" cy="990360"/>
          </a:xfrm>
        </p:grpSpPr>
        <p:sp>
          <p:nvSpPr>
            <p:cNvPr id="169" name="Rectangle 9"/>
            <p:cNvSpPr/>
            <p:nvPr/>
          </p:nvSpPr>
          <p:spPr>
            <a:xfrm>
              <a:off x="1600200" y="4660200"/>
              <a:ext cx="6323400" cy="90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0" name="AutoShape 10"/>
            <p:cNvSpPr/>
            <p:nvPr/>
          </p:nvSpPr>
          <p:spPr>
            <a:xfrm>
              <a:off x="2316240" y="4572000"/>
              <a:ext cx="4906440" cy="198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1752480" y="3200400"/>
            <a:ext cx="6019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OST_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callback implemented on parameter p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so that when 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hange occurs on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parent module, the same will be reflecte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on to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child 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NOTE: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 In this case, only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PARENT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module and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ub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CHILD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module can write to the </a:t>
            </a:r>
            <a:r>
              <a:rPr b="1" i="1" lang="en-US" sz="1400" spc="-1" strike="noStrike">
                <a:solidFill>
                  <a:srgbClr val="ff0000"/>
                </a:solidFill>
                <a:latin typeface="Arial Narrow"/>
              </a:rPr>
              <a:t>priv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the child module directly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73" name="Group 25"/>
          <p:cNvGrpSpPr/>
          <p:nvPr/>
        </p:nvGrpSpPr>
        <p:grpSpPr>
          <a:xfrm>
            <a:off x="2057400" y="1752480"/>
            <a:ext cx="5409720" cy="838080"/>
            <a:chOff x="2057400" y="1752480"/>
            <a:chExt cx="5409720" cy="838080"/>
          </a:xfrm>
        </p:grpSpPr>
        <p:grpSp>
          <p:nvGrpSpPr>
            <p:cNvPr id="174" name="Group 11"/>
            <p:cNvGrpSpPr/>
            <p:nvPr/>
          </p:nvGrpSpPr>
          <p:grpSpPr>
            <a:xfrm>
              <a:off x="2057400" y="1752480"/>
              <a:ext cx="5409720" cy="838080"/>
              <a:chOff x="2057400" y="1752480"/>
              <a:chExt cx="5409720" cy="838080"/>
            </a:xfrm>
          </p:grpSpPr>
          <p:sp>
            <p:nvSpPr>
              <p:cNvPr id="175" name="Rectangle 12"/>
              <p:cNvSpPr/>
              <p:nvPr/>
            </p:nvSpPr>
            <p:spPr>
              <a:xfrm>
                <a:off x="2057400" y="1752480"/>
                <a:ext cx="5409720" cy="76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6" name="AutoShape 13"/>
              <p:cNvSpPr/>
              <p:nvPr/>
            </p:nvSpPr>
            <p:spPr>
              <a:xfrm>
                <a:off x="3742560" y="2381040"/>
                <a:ext cx="1862280" cy="20952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77" name="Rectangle 16"/>
            <p:cNvSpPr/>
            <p:nvPr/>
          </p:nvSpPr>
          <p:spPr>
            <a:xfrm>
              <a:off x="2535120" y="1860120"/>
              <a:ext cx="4322880" cy="311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tores param handl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 (publicly visible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8" name="Rectangle 18"/>
          <p:cNvSpPr/>
          <p:nvPr/>
        </p:nvSpPr>
        <p:spPr>
          <a:xfrm>
            <a:off x="2895480" y="4952880"/>
            <a:ext cx="1524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1523880" y="914400"/>
            <a:ext cx="632484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rastructure implemented within the model for mak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cessary value changes to the private parameter of ‘child’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Oval 21"/>
          <p:cNvSpPr/>
          <p:nvPr/>
        </p:nvSpPr>
        <p:spPr>
          <a:xfrm>
            <a:off x="4114800" y="1828800"/>
            <a:ext cx="2590920" cy="45720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Oval 23"/>
          <p:cNvSpPr/>
          <p:nvPr/>
        </p:nvSpPr>
        <p:spPr>
          <a:xfrm>
            <a:off x="5029200" y="3200400"/>
            <a:ext cx="129528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Oval 24"/>
          <p:cNvSpPr/>
          <p:nvPr/>
        </p:nvSpPr>
        <p:spPr>
          <a:xfrm>
            <a:off x="2971800" y="4952880"/>
            <a:ext cx="137160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3" name="AutoShape 27"/>
          <p:cNvCxnSpPr>
            <a:stCxn id="180" idx="6"/>
            <a:endCxn id="181" idx="6"/>
          </p:cNvCxnSpPr>
          <p:nvPr/>
        </p:nvCxnSpPr>
        <p:spPr>
          <a:xfrm flipH="1">
            <a:off x="6338520" y="2057400"/>
            <a:ext cx="381600" cy="1296000"/>
          </a:xfrm>
          <a:prstGeom prst="curvedConnector5">
            <a:avLst>
              <a:gd name="adj1" fmla="val -56185"/>
              <a:gd name="adj2" fmla="val 49986"/>
              <a:gd name="adj3" fmla="val -56185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184" name="AutoShape 29"/>
          <p:cNvCxnSpPr>
            <a:stCxn id="181" idx="2"/>
            <a:endCxn id="182" idx="2"/>
          </p:cNvCxnSpPr>
          <p:nvPr/>
        </p:nvCxnSpPr>
        <p:spPr>
          <a:xfrm flipV="1" rot="10800000">
            <a:off x="2956680" y="3351600"/>
            <a:ext cx="2057760" cy="1753560"/>
          </a:xfrm>
          <a:prstGeom prst="curvedConnector5">
            <a:avLst>
              <a:gd name="adj1" fmla="val 110428"/>
              <a:gd name="adj2" fmla="val 50000"/>
              <a:gd name="adj3" fmla="val 11042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sp>
        <p:nvSpPr>
          <p:cNvPr id="185" name="Rectangle 30"/>
          <p:cNvSpPr/>
          <p:nvPr/>
        </p:nvSpPr>
        <p:spPr>
          <a:xfrm>
            <a:off x="4876920" y="4952880"/>
            <a:ext cx="152388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ub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9"/>
          <p:cNvGrpSpPr/>
          <p:nvPr/>
        </p:nvGrpSpPr>
        <p:grpSpPr>
          <a:xfrm>
            <a:off x="457200" y="1066680"/>
            <a:ext cx="8229240" cy="5104800"/>
            <a:chOff x="457200" y="1066680"/>
            <a:chExt cx="8229240" cy="5104800"/>
          </a:xfrm>
        </p:grpSpPr>
        <p:sp>
          <p:nvSpPr>
            <p:cNvPr id="188" name="Rectangle 10"/>
            <p:cNvSpPr/>
            <p:nvPr/>
          </p:nvSpPr>
          <p:spPr>
            <a:xfrm>
              <a:off x="457200" y="1066680"/>
              <a:ext cx="8229240" cy="501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11"/>
            <p:cNvSpPr/>
            <p:nvPr/>
          </p:nvSpPr>
          <p:spPr>
            <a:xfrm>
              <a:off x="3841200" y="5888160"/>
              <a:ext cx="1614960" cy="2833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0" name="AutoShape 1"/>
          <p:cNvSpPr/>
          <p:nvPr/>
        </p:nvSpPr>
        <p:spPr>
          <a:xfrm>
            <a:off x="457200" y="144360"/>
            <a:ext cx="71629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1" name="Group 4"/>
          <p:cNvGrpSpPr/>
          <p:nvPr/>
        </p:nvGrpSpPr>
        <p:grpSpPr>
          <a:xfrm>
            <a:off x="762120" y="1219320"/>
            <a:ext cx="7924320" cy="914400"/>
            <a:chOff x="762120" y="1219320"/>
            <a:chExt cx="7924320" cy="914400"/>
          </a:xfrm>
        </p:grpSpPr>
        <p:sp>
          <p:nvSpPr>
            <p:cNvPr id="192" name="Rectangle 5"/>
            <p:cNvSpPr/>
            <p:nvPr/>
          </p:nvSpPr>
          <p:spPr>
            <a:xfrm>
              <a:off x="762120" y="1219320"/>
              <a:ext cx="792432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6"/>
            <p:cNvSpPr/>
            <p:nvPr/>
          </p:nvSpPr>
          <p:spPr>
            <a:xfrm>
              <a:off x="3230280" y="1905120"/>
              <a:ext cx="272772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4" name="Rectangle 7"/>
          <p:cNvSpPr/>
          <p:nvPr/>
        </p:nvSpPr>
        <p:spPr>
          <a:xfrm>
            <a:off x="838080" y="1336680"/>
            <a:ext cx="769644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5" name="Group 14"/>
          <p:cNvGrpSpPr/>
          <p:nvPr/>
        </p:nvGrpSpPr>
        <p:grpSpPr>
          <a:xfrm>
            <a:off x="990720" y="2895480"/>
            <a:ext cx="6857280" cy="2971440"/>
            <a:chOff x="990720" y="2895480"/>
            <a:chExt cx="6857280" cy="2971440"/>
          </a:xfrm>
        </p:grpSpPr>
        <p:sp>
          <p:nvSpPr>
            <p:cNvPr id="196" name="Rectangle 15"/>
            <p:cNvSpPr/>
            <p:nvPr/>
          </p:nvSpPr>
          <p:spPr>
            <a:xfrm>
              <a:off x="990720" y="303336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AutoShape 16"/>
            <p:cNvSpPr/>
            <p:nvPr/>
          </p:nvSpPr>
          <p:spPr>
            <a:xfrm>
              <a:off x="2662560" y="289548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8" name="Rectangle 17"/>
          <p:cNvSpPr/>
          <p:nvPr/>
        </p:nvSpPr>
        <p:spPr>
          <a:xfrm>
            <a:off x="1143000" y="3352680"/>
            <a:ext cx="472428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9" name="Group 30"/>
          <p:cNvGrpSpPr/>
          <p:nvPr/>
        </p:nvGrpSpPr>
        <p:grpSpPr>
          <a:xfrm>
            <a:off x="1143000" y="4343400"/>
            <a:ext cx="6477120" cy="1295280"/>
            <a:chOff x="1143000" y="4343400"/>
            <a:chExt cx="6477120" cy="1295280"/>
          </a:xfrm>
        </p:grpSpPr>
        <p:sp>
          <p:nvSpPr>
            <p:cNvPr id="200" name="Rectangle 20"/>
            <p:cNvSpPr/>
            <p:nvPr/>
          </p:nvSpPr>
          <p:spPr>
            <a:xfrm>
              <a:off x="1143000" y="4459320"/>
              <a:ext cx="6477120" cy="117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AutoShape 21"/>
            <p:cNvSpPr/>
            <p:nvPr/>
          </p:nvSpPr>
          <p:spPr>
            <a:xfrm>
              <a:off x="2486160" y="4343400"/>
              <a:ext cx="3686040" cy="2588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2" name="Rectangle 22"/>
          <p:cNvSpPr/>
          <p:nvPr/>
        </p:nvSpPr>
        <p:spPr>
          <a:xfrm>
            <a:off x="1295280" y="4724280"/>
            <a:ext cx="609624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23"/>
          <p:cNvSpPr/>
          <p:nvPr/>
        </p:nvSpPr>
        <p:spPr>
          <a:xfrm>
            <a:off x="2590920" y="609480"/>
            <a:ext cx="4190760" cy="381240"/>
          </a:xfrm>
          <a:prstGeom prst="rect">
            <a:avLst/>
          </a:prstGeom>
          <a:solidFill>
            <a:srgbClr val="00b8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monstrating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arameter Hid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25"/>
          <p:cNvSpPr/>
          <p:nvPr/>
        </p:nvSpPr>
        <p:spPr>
          <a:xfrm>
            <a:off x="5791320" y="3257640"/>
            <a:ext cx="2895480" cy="838080"/>
          </a:xfrm>
          <a:prstGeom prst="borderCallout1">
            <a:avLst>
              <a:gd name="adj1" fmla="val 18750"/>
              <a:gd name="adj2" fmla="val -8333"/>
              <a:gd name="adj3" fmla="val 23208"/>
              <a:gd name="adj4" fmla="val -20328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9"/>
          <p:cNvSpPr/>
          <p:nvPr/>
        </p:nvSpPr>
        <p:spPr>
          <a:xfrm>
            <a:off x="5791320" y="4680000"/>
            <a:ext cx="2903400" cy="838080"/>
          </a:xfrm>
          <a:prstGeom prst="borderCallout1">
            <a:avLst>
              <a:gd name="adj1" fmla="val 18750"/>
              <a:gd name="adj2" fmla="val -8333"/>
              <a:gd name="adj3" fmla="val 25222"/>
              <a:gd name="adj4" fmla="val -19736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Top.private.parent_inst.parent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31"/>
          <p:cNvSpPr/>
          <p:nvPr/>
        </p:nvSpPr>
        <p:spPr>
          <a:xfrm>
            <a:off x="4191120" y="2286000"/>
            <a:ext cx="2590560" cy="457200"/>
          </a:xfrm>
          <a:prstGeom prst="borderCallout1">
            <a:avLst>
              <a:gd name="adj1" fmla="val 18750"/>
              <a:gd name="adj2" fmla="val -8333"/>
              <a:gd name="adj3" fmla="val -172916"/>
              <a:gd name="adj4" fmla="val 10680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9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209" name="Rectangle 10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AutoShape 11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1" name="Group 41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grpSp>
          <p:nvGrpSpPr>
            <p:cNvPr id="212" name="Group 13"/>
            <p:cNvGrpSpPr/>
            <p:nvPr/>
          </p:nvGrpSpPr>
          <p:grpSpPr>
            <a:xfrm>
              <a:off x="1219320" y="2819520"/>
              <a:ext cx="6857280" cy="2971440"/>
              <a:chOff x="1219320" y="2819520"/>
              <a:chExt cx="6857280" cy="2971440"/>
            </a:xfrm>
          </p:grpSpPr>
          <p:sp>
            <p:nvSpPr>
              <p:cNvPr id="213" name="Rectangle 14"/>
              <p:cNvSpPr/>
              <p:nvPr/>
            </p:nvSpPr>
            <p:spPr>
              <a:xfrm>
                <a:off x="1219320" y="2957400"/>
                <a:ext cx="6857280" cy="2833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4" name="AutoShape 15"/>
              <p:cNvSpPr/>
              <p:nvPr/>
            </p:nvSpPr>
            <p:spPr>
              <a:xfrm>
                <a:off x="2891160" y="2819520"/>
                <a:ext cx="351252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parent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5" name="Group 40"/>
            <p:cNvGrpSpPr/>
            <p:nvPr/>
          </p:nvGrpSpPr>
          <p:grpSpPr>
            <a:xfrm>
              <a:off x="1828800" y="3200400"/>
              <a:ext cx="5638680" cy="457200"/>
              <a:chOff x="1828800" y="3200400"/>
              <a:chExt cx="5638680" cy="457200"/>
            </a:xfrm>
          </p:grpSpPr>
          <p:sp>
            <p:nvSpPr>
              <p:cNvPr id="216" name="Rectangle 17"/>
              <p:cNvSpPr/>
              <p:nvPr/>
            </p:nvSpPr>
            <p:spPr>
              <a:xfrm>
                <a:off x="5029200" y="320040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7" name="Rectangle 34"/>
              <p:cNvSpPr/>
              <p:nvPr/>
            </p:nvSpPr>
            <p:spPr>
              <a:xfrm>
                <a:off x="1828800" y="320040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param 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8" name="Group 39"/>
            <p:cNvGrpSpPr/>
            <p:nvPr/>
          </p:nvGrpSpPr>
          <p:grpSpPr>
            <a:xfrm>
              <a:off x="1828800" y="3809880"/>
              <a:ext cx="5638680" cy="457200"/>
              <a:chOff x="1828800" y="3809880"/>
              <a:chExt cx="5638680" cy="457200"/>
            </a:xfrm>
          </p:grpSpPr>
          <p:sp>
            <p:nvSpPr>
              <p:cNvPr id="219" name="Rectangle 16"/>
              <p:cNvSpPr/>
              <p:nvPr/>
            </p:nvSpPr>
            <p:spPr>
              <a:xfrm>
                <a:off x="1828800" y="380988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buffer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0" name="Rectangle 38"/>
              <p:cNvSpPr/>
              <p:nvPr/>
            </p:nvSpPr>
            <p:spPr>
              <a:xfrm>
                <a:off x="5029200" y="380988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5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2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981080" y="838080"/>
            <a:ext cx="556272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llustrating the flow when a valid value change is to b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e to a private parameter (Implemented via callback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2057400" y="1676520"/>
            <a:ext cx="5409720" cy="914400"/>
            <a:chOff x="2057400" y="1676520"/>
            <a:chExt cx="5409720" cy="914400"/>
          </a:xfrm>
        </p:grpSpPr>
        <p:grpSp>
          <p:nvGrpSpPr>
            <p:cNvPr id="224" name="Group 5"/>
            <p:cNvGrpSpPr/>
            <p:nvPr/>
          </p:nvGrpSpPr>
          <p:grpSpPr>
            <a:xfrm>
              <a:off x="2057400" y="1676520"/>
              <a:ext cx="5409720" cy="914400"/>
              <a:chOff x="2057400" y="1676520"/>
              <a:chExt cx="5409720" cy="91440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2057400" y="1676520"/>
                <a:ext cx="540972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6" name="AutoShape 7"/>
              <p:cNvSpPr/>
              <p:nvPr/>
            </p:nvSpPr>
            <p:spPr>
              <a:xfrm>
                <a:off x="3742560" y="2362320"/>
                <a:ext cx="186228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27" name="Rectangle 8"/>
            <p:cNvSpPr/>
            <p:nvPr/>
          </p:nvSpPr>
          <p:spPr>
            <a:xfrm>
              <a:off x="2286000" y="1870200"/>
              <a:ext cx="4952880" cy="339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Write new valu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to th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set_cci_value(…)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parent_param_handle.set_cci_value(cci::cci_value(1000));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8" name="Group 19"/>
          <p:cNvGrpSpPr/>
          <p:nvPr/>
        </p:nvGrpSpPr>
        <p:grpSpPr>
          <a:xfrm>
            <a:off x="1600200" y="4419720"/>
            <a:ext cx="6323400" cy="1143000"/>
            <a:chOff x="1600200" y="4419720"/>
            <a:chExt cx="6323400" cy="1143000"/>
          </a:xfrm>
        </p:grpSpPr>
        <p:sp>
          <p:nvSpPr>
            <p:cNvPr id="229" name="Rectangle 20"/>
            <p:cNvSpPr/>
            <p:nvPr/>
          </p:nvSpPr>
          <p:spPr>
            <a:xfrm>
              <a:off x="1600200" y="4521600"/>
              <a:ext cx="6323400" cy="104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AutoShape 21"/>
            <p:cNvSpPr/>
            <p:nvPr/>
          </p:nvSpPr>
          <p:spPr>
            <a:xfrm>
              <a:off x="2316240" y="4419720"/>
              <a:ext cx="490644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1" name="Oval 25"/>
          <p:cNvSpPr/>
          <p:nvPr/>
        </p:nvSpPr>
        <p:spPr>
          <a:xfrm>
            <a:off x="2666880" y="1981080"/>
            <a:ext cx="4419720" cy="38124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32" name="Group 26"/>
          <p:cNvGrpSpPr/>
          <p:nvPr/>
        </p:nvGrpSpPr>
        <p:grpSpPr>
          <a:xfrm>
            <a:off x="5181480" y="3733920"/>
            <a:ext cx="2438280" cy="457200"/>
            <a:chOff x="5181480" y="3733920"/>
            <a:chExt cx="2438280" cy="457200"/>
          </a:xfrm>
        </p:grpSpPr>
        <p:sp>
          <p:nvSpPr>
            <p:cNvPr id="233" name="Rectangle 27"/>
            <p:cNvSpPr/>
            <p:nvPr/>
          </p:nvSpPr>
          <p:spPr>
            <a:xfrm>
              <a:off x="5181480" y="373392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4" name="Oval 28"/>
            <p:cNvSpPr/>
            <p:nvPr/>
          </p:nvSpPr>
          <p:spPr>
            <a:xfrm>
              <a:off x="5257800" y="3810240"/>
              <a:ext cx="2361960" cy="380880"/>
            </a:xfrm>
            <a:prstGeom prst="ellipse">
              <a:avLst/>
            </a:prstGeom>
            <a:solidFill>
              <a:srgbClr val="008000">
                <a:alpha val="3000"/>
              </a:srgbClr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235" name="AutoShape 32"/>
          <p:cNvCxnSpPr>
            <a:stCxn id="231" idx="6"/>
            <a:endCxn id="234" idx="6"/>
          </p:cNvCxnSpPr>
          <p:nvPr/>
        </p:nvCxnSpPr>
        <p:spPr>
          <a:xfrm>
            <a:off x="7086600" y="2171880"/>
            <a:ext cx="534240" cy="1829520"/>
          </a:xfrm>
          <a:prstGeom prst="curvedConnector5">
            <a:avLst>
              <a:gd name="adj1" fmla="val 142818"/>
              <a:gd name="adj2" fmla="val 49990"/>
              <a:gd name="adj3" fmla="val 14281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236" name="AutoShape 33"/>
          <p:cNvCxnSpPr>
            <a:stCxn id="234" idx="5"/>
            <a:endCxn id="237" idx="6"/>
          </p:cNvCxnSpPr>
          <p:nvPr/>
        </p:nvCxnSpPr>
        <p:spPr>
          <a:xfrm flipH="1" rot="16200000">
            <a:off x="6995160" y="4427640"/>
            <a:ext cx="842040" cy="285120"/>
          </a:xfrm>
          <a:prstGeom prst="curvedConnector5">
            <a:avLst>
              <a:gd name="adj1" fmla="val 41103"/>
              <a:gd name="adj2" fmla="val 87610"/>
              <a:gd name="adj3" fmla="val 41103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grpSp>
        <p:nvGrpSpPr>
          <p:cNvPr id="238" name="Group 44"/>
          <p:cNvGrpSpPr/>
          <p:nvPr/>
        </p:nvGrpSpPr>
        <p:grpSpPr>
          <a:xfrm>
            <a:off x="1905120" y="4876920"/>
            <a:ext cx="5562360" cy="533160"/>
            <a:chOff x="1905120" y="4876920"/>
            <a:chExt cx="5562360" cy="533160"/>
          </a:xfrm>
        </p:grpSpPr>
        <p:sp>
          <p:nvSpPr>
            <p:cNvPr id="239" name="Rectangle 23"/>
            <p:cNvSpPr/>
            <p:nvPr/>
          </p:nvSpPr>
          <p:spPr>
            <a:xfrm>
              <a:off x="1905120" y="487692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riv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Rectangle 24"/>
            <p:cNvSpPr/>
            <p:nvPr/>
          </p:nvSpPr>
          <p:spPr>
            <a:xfrm>
              <a:off x="5029200" y="487692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1" name="Rectangle 42"/>
            <p:cNvSpPr/>
            <p:nvPr/>
          </p:nvSpPr>
          <p:spPr>
            <a:xfrm>
              <a:off x="1905120" y="518148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ub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Rectangle 43"/>
            <p:cNvSpPr/>
            <p:nvPr/>
          </p:nvSpPr>
          <p:spPr>
            <a:xfrm>
              <a:off x="5029200" y="518148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5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29"/>
          <p:cNvGrpSpPr/>
          <p:nvPr/>
        </p:nvGrpSpPr>
        <p:grpSpPr>
          <a:xfrm>
            <a:off x="5105520" y="4724280"/>
            <a:ext cx="2438280" cy="457200"/>
            <a:chOff x="5105520" y="4724280"/>
            <a:chExt cx="2438280" cy="457200"/>
          </a:xfrm>
        </p:grpSpPr>
        <p:sp>
          <p:nvSpPr>
            <p:cNvPr id="244" name="Rectangle 30"/>
            <p:cNvSpPr/>
            <p:nvPr/>
          </p:nvSpPr>
          <p:spPr>
            <a:xfrm>
              <a:off x="5105520" y="472428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7" name="Oval 31"/>
            <p:cNvSpPr/>
            <p:nvPr/>
          </p:nvSpPr>
          <p:spPr>
            <a:xfrm>
              <a:off x="5181840" y="4800600"/>
              <a:ext cx="2361960" cy="380880"/>
            </a:xfrm>
            <a:prstGeom prst="ellipse">
              <a:avLst/>
            </a:prstGeom>
            <a:solidFill>
              <a:srgbClr val="008000">
                <a:alpha val="1000"/>
              </a:srgbClr>
            </a:solidFill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45" name="Rectangle 4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4_Hiding_Parameters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Is Private Broker? : tru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ub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0 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'child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@ 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parent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@ 1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configurator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Change the value of the 'parent_int_buffer' to '10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0:00:29Z</dcterms:modified>
  <cp:revision>36</cp:revision>
  <dc:subject/>
  <dc:title>ex14_Hid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0:28Z</vt:lpwstr>
  </property>
  <property fmtid="{D5CDD505-2E9C-101B-9397-08002B2CF9AE}" pid="5" name="TitusGUID">
    <vt:lpwstr>189efc54-5a38-4284-9103-2a19f32e059d</vt:lpwstr>
  </property>
</Properties>
</file>