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1360-71FE-4BFE-A488-14B52A0E8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2FAC-459C-4E99-A854-4C551DA91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03B7-89AD-493D-B00D-67CEC8A8C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E51D-C761-4043-A9B9-FD6F08110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79E02-E786-4695-A219-11AB20508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D630-FB66-4DD3-8A89-AF4F44443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E74D-19E9-4E12-9262-99EB3DCA8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B42C-AE66-482B-B387-B55A9E850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7D9E-0CE5-404A-B627-FEF89818B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82B91-E45B-4F52-98C1-71201EDC9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4A2A-B18E-4D7D-8AE1-2DBC0BEE4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39E5-66E9-41C0-8582-F0370BDA9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6E6F9-3354-4054-9771-A411365FE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EA56-1875-4FCD-8FF7-49489B685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76F1-8305-4590-B675-3FED47550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7848-84F1-4039-86A7-AC2F0C4A9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0.9.0_pub_rev_20171217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…/rapidjson-1.1.0.tar.gz -C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rmdir rapidjson; ln –s rapidjson-1.1.0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See cci-0.9.0_pub_rev_20171217/README.txt for instructions to download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environment variables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vobs/ti_systemc/tools/boost/boost_1_44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0.9.0_pub_rev_201712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You can find a half-done script at cci_test/scripts/source.bas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packages/gs_bro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scripts/README_CCI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(required due to long path nam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0.9.0_pub_rev_20171217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d.. 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_code\cci_test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2-19T20:41:36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9 20:41:36Z</vt:lpwstr>
  </property>
  <property fmtid="{D5CDD505-2E9C-101B-9397-08002B2CF9AE}" pid="5" name="TitusGUID">
    <vt:lpwstr>e3de821b-1c25-48f5-972a-c3014a611f88</vt:lpwstr>
  </property>
</Properties>
</file>