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49892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89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7D409-2FC4-4B7F-A4DD-B14651C3D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63ECE-1B3F-490B-8573-BCDB5C2EB3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DE327-7D19-4C7A-9A4C-4B0F3D20FB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27F37-AD86-4B22-A036-168FCF175A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5E4F7-50FE-4A1E-9D63-87F22613F6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071A8-93D1-4B1A-B348-C934A620CB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0317D-6612-47FA-9004-89FC0D6974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29DA8-CB8F-480D-B221-CDE085C946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9261B-AE3D-4A7B-B7C7-4665737DA1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F313E-387B-4AEB-956E-F236A3AC09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4E9B9-0EA8-4111-A15C-CCB448C82D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4284D-F6CA-473B-B7A9-910C2ED91B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5862B-1C48-4C41-A68D-DE0DA7FD6B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38029-575F-4BF9-B37D-E965ED2D9C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A59B3-3D7A-4092-AFC5-FBCF9F469C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37290-B2F4-496D-9515-B2FB5EF450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82D33-546A-4DDD-A588-18446ECC09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F50C5-C63A-4C9A-A990-237CE2548C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1DD17-A7C0-42E6-9C2D-9950E5945B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51FCD-41BE-4DC1-9520-AA8D0051F7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9F6B3-74E5-4E0A-B813-290FF2C3F9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0F4C5-FDAA-4DB6-B04F-C834676761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2838-EC0B-4D61-91A5-7E7B5510F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43006-FAEC-40DC-839B-7D2689A62B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F65C9-01C6-4E8B-B2AF-25A036C64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63EE-6266-4BEB-8540-AE2C45063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C373D-36FA-45FA-9D1E-FE9CA49773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21C22-7850-43AA-83A6-B06C1C1250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72ADD-386F-4AD1-B0D6-58F3DD6E7A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73391-6950-4E1F-9317-BCC8E3E7DEA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E0919-2B26-4FDA-8C80-D059880E9F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E9143-FD0C-4915-A155-19C0D8F0E0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3DAF-CF4A-4F89-A207-98C126FF41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DB51C-40E3-428B-A183-D24FCE39F0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AE323-3634-4C51-B6D4-D3889D4815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0DC1D-5FE2-4287-BFA2-76339941E3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7CC48-2921-4C43-B5C6-109FDB512A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B96A7-1866-4CBE-BE2A-D735C137648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C84AE-2234-4F95-947B-13C40B1DFF2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B9353-8692-4DB4-B272-E8D840D1B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AC569-26A2-4714-8305-8AC201BD5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C828C-FCAD-4FF6-9DBD-D80B04EAB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8FAAA-A4FE-45C9-AA3F-7F9396A41E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B0BF-B678-4804-8396-214EE59349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84909-CB9A-473E-B4DA-9EA312436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763C3-4B26-41B2-8957-769450E5C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8120"/>
            <a:ext cx="11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3ADD4-4FA3-43AC-BFB0-57E1423D16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22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22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240" y="6287760"/>
            <a:ext cx="11444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C3B915EE-9375-4700-9F56-C8A4EB7A17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fying Parameter Value via a Configuration File</a:t>
            </a: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1"/>
          <p:cNvSpPr/>
          <p:nvPr/>
        </p:nvSpPr>
        <p:spPr>
          <a:xfrm>
            <a:off x="554040" y="144360"/>
            <a:ext cx="807228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ying Parameter Values via a Configuration F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Understand the precedence between the default, preset and 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Processing configuration file to establish pre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72960" y="2743200"/>
            <a:ext cx="4503960" cy="11430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“cci_configFile_Tool.h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configuration file as shown below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Unicode MS"/>
              </a:rPr>
              <a:t>cci_configFile_Tool configTool("configFileTool"); configTool.config("Configuration_File.txt");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1" name="Group 10"/>
          <p:cNvGrpSpPr/>
          <p:nvPr/>
        </p:nvGrpSpPr>
        <p:grpSpPr>
          <a:xfrm>
            <a:off x="5105520" y="1676520"/>
            <a:ext cx="3657600" cy="1828800"/>
            <a:chOff x="5105520" y="1676520"/>
            <a:chExt cx="3657600" cy="1828800"/>
          </a:xfrm>
        </p:grpSpPr>
        <p:sp>
          <p:nvSpPr>
            <p:cNvPr id="182" name="AutoShape 2"/>
            <p:cNvSpPr/>
            <p:nvPr/>
          </p:nvSpPr>
          <p:spPr>
            <a:xfrm>
              <a:off x="5715000" y="304812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>
              <a:off x="5105520" y="167652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4" name="AutoShape 9"/>
          <p:cNvSpPr/>
          <p:nvPr/>
        </p:nvSpPr>
        <p:spPr>
          <a:xfrm>
            <a:off x="533520" y="2133720"/>
            <a:ext cx="2361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Within sc_ma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685800" y="914400"/>
            <a:ext cx="792468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an instance of the class that reads the configuration file within the sc_main function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reads name-value pairs from the configuration file and assigns to the respective parameters accordingly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3"/>
          <p:cNvSpPr/>
          <p:nvPr/>
        </p:nvSpPr>
        <p:spPr>
          <a:xfrm>
            <a:off x="228600" y="914400"/>
            <a:ext cx="3809880" cy="685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22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 Implement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486400" y="685800"/>
            <a:ext cx="3657600" cy="1828800"/>
            <a:chOff x="5486400" y="685800"/>
            <a:chExt cx="3657600" cy="1828800"/>
          </a:xfrm>
        </p:grpSpPr>
        <p:sp>
          <p:nvSpPr>
            <p:cNvPr id="190" name="AutoShape 6"/>
            <p:cNvSpPr/>
            <p:nvPr/>
          </p:nvSpPr>
          <p:spPr>
            <a:xfrm>
              <a:off x="6095880" y="205740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5486400" y="68580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2" name="AutoShape 8"/>
          <p:cNvSpPr/>
          <p:nvPr/>
        </p:nvSpPr>
        <p:spPr>
          <a:xfrm>
            <a:off x="304920" y="1752480"/>
            <a:ext cx="434340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is a simple C++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304920" y="2666880"/>
            <a:ext cx="78483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Get handl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global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(cci::get_global_broker(mToolOriginator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76320" y="3276720"/>
            <a:ext cx="8305560" cy="1600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API,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line void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 (const char* filename)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function reads the fi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uration_File.tx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line by line using an iterator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t assigns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rest value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cci-parameters read from the file using the broke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.set_prest_value(it-&gt;first.c_str(), cci::cci_value::from_json(it-&gt;second.c_str())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Line 12"/>
          <p:cNvSpPr/>
          <p:nvPr/>
        </p:nvSpPr>
        <p:spPr>
          <a:xfrm flipH="1">
            <a:off x="2895480" y="4648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114800" y="46483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914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nam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4343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04920" y="2209680"/>
            <a:ext cx="510516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 a cci::cci_originator instanc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ToolOrigina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4"/>
          <p:cNvGrpSpPr/>
          <p:nvPr/>
        </p:nvGrpSpPr>
        <p:grpSpPr>
          <a:xfrm>
            <a:off x="4724280" y="685800"/>
            <a:ext cx="3535560" cy="5475240"/>
            <a:chOff x="4724280" y="685800"/>
            <a:chExt cx="3535560" cy="5475240"/>
          </a:xfrm>
        </p:grpSpPr>
        <p:sp>
          <p:nvSpPr>
            <p:cNvPr id="203" name="AutoShape 3"/>
            <p:cNvSpPr/>
            <p:nvPr/>
          </p:nvSpPr>
          <p:spPr>
            <a:xfrm>
              <a:off x="4724280" y="685800"/>
              <a:ext cx="35355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Line 4"/>
            <p:cNvSpPr/>
            <p:nvPr/>
          </p:nvSpPr>
          <p:spPr>
            <a:xfrm>
              <a:off x="6469200" y="1131840"/>
              <a:ext cx="9360" cy="50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5" name="AutoShape 5"/>
          <p:cNvSpPr/>
          <p:nvPr/>
        </p:nvSpPr>
        <p:spPr>
          <a:xfrm>
            <a:off x="312840" y="1370160"/>
            <a:ext cx="445140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() :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() : pre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3276720" y="2173320"/>
            <a:ext cx="5486400" cy="19000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Get references of the integer, float and string cci-parameter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in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in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floa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floa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str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string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3048120" y="4484520"/>
            <a:ext cx="5943600" cy="696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new values to ‘integer’ and ‘string’ typ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set_cci_value(cci_value(“20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set_cci_value(cci_value::from_json(“configure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7454880" y="4073400"/>
            <a:ext cx="1155600" cy="4222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314280" y="5256360"/>
            <a:ext cx="524844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_value() :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_value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_value() : configur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488880" y="4835520"/>
            <a:ext cx="1155600" cy="345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1" name="Group 13"/>
          <p:cNvGrpSpPr/>
          <p:nvPr/>
        </p:nvGrpSpPr>
        <p:grpSpPr>
          <a:xfrm>
            <a:off x="1108080" y="679320"/>
            <a:ext cx="2625840" cy="5492520"/>
            <a:chOff x="1108080" y="679320"/>
            <a:chExt cx="2625840" cy="5492520"/>
          </a:xfrm>
        </p:grpSpPr>
        <p:sp>
          <p:nvSpPr>
            <p:cNvPr id="212" name="AutoShape 2"/>
            <p:cNvSpPr/>
            <p:nvPr/>
          </p:nvSpPr>
          <p:spPr>
            <a:xfrm>
              <a:off x="1108080" y="679320"/>
              <a:ext cx="2625840" cy="47916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4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2543040" y="1379880"/>
              <a:ext cx="9720" cy="47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4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304920" y="144360"/>
            <a:ext cx="850716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cedence of Prest, Default &amp; Set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600200" y="19810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600200" y="40068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152280" y="186048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1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52280" y="388620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2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1600200" y="762120"/>
            <a:ext cx="1066680" cy="42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Line 10"/>
          <p:cNvSpPr/>
          <p:nvPr/>
        </p:nvSpPr>
        <p:spPr>
          <a:xfrm flipV="1">
            <a:off x="213372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144792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8098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38098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320040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3200400" y="717480"/>
            <a:ext cx="1295280" cy="501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274320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495288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AutoShape 18"/>
          <p:cNvSpPr/>
          <p:nvPr/>
        </p:nvSpPr>
        <p:spPr>
          <a:xfrm>
            <a:off x="152280" y="5638680"/>
            <a:ext cx="22860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fore instantiation of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AutoShape 19"/>
          <p:cNvSpPr/>
          <p:nvPr/>
        </p:nvSpPr>
        <p:spPr>
          <a:xfrm>
            <a:off x="4229280" y="1676520"/>
            <a:ext cx="144756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over-ridden by the preset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2095560" y="1652760"/>
            <a:ext cx="121932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has the highest precedenc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1"/>
          <p:cNvSpPr/>
          <p:nvPr/>
        </p:nvSpPr>
        <p:spPr>
          <a:xfrm>
            <a:off x="4419720" y="3809880"/>
            <a:ext cx="121896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281952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uring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5867280" y="48006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5867280" y="6858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67816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67816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28"/>
          <p:cNvSpPr/>
          <p:nvPr/>
        </p:nvSpPr>
        <p:spPr>
          <a:xfrm>
            <a:off x="7391520" y="182880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9"/>
          <p:cNvSpPr/>
          <p:nvPr/>
        </p:nvSpPr>
        <p:spPr>
          <a:xfrm>
            <a:off x="7391520" y="380988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AutoShape 30"/>
          <p:cNvSpPr/>
          <p:nvPr/>
        </p:nvSpPr>
        <p:spPr>
          <a:xfrm>
            <a:off x="525780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fter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Line 31"/>
          <p:cNvSpPr/>
          <p:nvPr/>
        </p:nvSpPr>
        <p:spPr>
          <a:xfrm>
            <a:off x="304920" y="5562720"/>
            <a:ext cx="8381880" cy="0"/>
          </a:xfrm>
          <a:prstGeom prst="line">
            <a:avLst/>
          </a:prstGeom>
          <a:ln w="19080">
            <a:solidFill>
              <a:srgbClr val="0000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213372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7_Specifying_Parameter_Value_via_a_Configuration_File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1092240"/>
            <a:ext cx="8686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int_param'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string_param' to '“preset"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Int 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String Parameter Value : pres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Integer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Float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String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integer parameter value to '2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string  parameter value to 'configur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Int Parameter Value :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String Parameter Value : config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23:22Z</dcterms:modified>
  <cp:revision>18</cp:revision>
  <dc:subject/>
  <dc:title>ex17_Specifying_Parameter_Values_via_a_Configuration_F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23:22Z</vt:lpwstr>
  </property>
  <property fmtid="{D5CDD505-2E9C-101B-9397-08002B2CF9AE}" pid="5" name="TitusGUID">
    <vt:lpwstr>c44708f1-27b7-4d9f-94bd-f7e37ebb71cf</vt:lpwstr>
  </property>
</Properties>
</file>