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2B27-A3A3-4452-81EF-AC3B96201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6B1A-4A46-4726-8F69-6EB5DDBA0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3C9F-34DA-43FD-AEDE-0034DD8DA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1FDD-5864-4F28-8D97-E8ABEF81B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F3CF-19BB-488A-B9CE-A8AE27912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DFD7-19C5-4350-A437-6B4DDC246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AB717-AE4C-412E-93BE-711B2676E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C908D-DD42-41A1-8459-EA16563AE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DD2AB-A1C1-47DE-A97D-ABCCBAE55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B875C-6392-4F9A-9AB0-51807172B2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2C9B-976C-4A4C-9BCE-55FF2C5412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6069-5AEF-4C3A-BB5C-DA8D55F1D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A1298-246F-4A9F-A5D7-43D877341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7CE51-94A4-4D91-8933-5C6ECB245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51200-7A8D-40A0-AF08-A134A27DD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0FAB3-52CD-4665-8418-29AC9D075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A78EF-5548-45F4-A2EB-D47D770F65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2DD0-0CF0-4359-8EBE-A9D209E8A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2F76-3FE6-4F8C-856D-526B7878F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Value Change callback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eshadri Chakravart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rameter Value Change callba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requesting and responding to value change notif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odule creates couple of parameters and sets callbacks on both of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1, the user module would allow value change without any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2, the user module would reject value change unconditiona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Picture 4" descr="cci_ex8.jpeg"/>
          <p:cNvPicPr/>
          <p:nvPr/>
        </p:nvPicPr>
        <p:blipFill>
          <a:blip r:embed="rId1"/>
          <a:stretch/>
        </p:blipFill>
        <p:spPr>
          <a:xfrm>
            <a:off x="138240" y="700200"/>
            <a:ext cx="8867520" cy="54576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7"/>
          <p:cNvSpPr/>
          <p:nvPr/>
        </p:nvSpPr>
        <p:spPr>
          <a:xfrm>
            <a:off x="2093760" y="5370480"/>
            <a:ext cx="6921720" cy="689040"/>
          </a:xfrm>
          <a:prstGeom prst="leftArrowCallout">
            <a:avLst>
              <a:gd name="adj1" fmla="val 14751"/>
              <a:gd name="adj2" fmla="val 25000"/>
              <a:gd name="adj3" fmla="val 123243"/>
              <a:gd name="adj4" fmla="val 365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Observe that since write is rejec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for param_2 reject_write callback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no other callbacks are trigger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br>
              <a:rPr sz="32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08_Parameter_Value_Change_Callbacks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1 is 1 (Default value Specified: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2 is 2 (Default value Specified: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1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ost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Current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2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reject_pre_write_callback: Rejecting Value change on sim_ip.param_2 (2 -&gt; 2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0 s, Caught exception: Error: /Accellera/CCI/SET_PARAM_FAILED: Value rejected by callback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cfg_ip: @0 s, config_ip::end_of_elaboration: [EXTERNAL] Current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1 (10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5T20:36:41Z</dcterms:modified>
  <cp:revision>149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36:41Z</vt:lpwstr>
  </property>
  <property fmtid="{D5CDD505-2E9C-101B-9397-08002B2CF9AE}" pid="5" name="TitusGUID">
    <vt:lpwstr>e91f1e81-ec8b-4b29-aa9d-61454af1454c</vt:lpwstr>
  </property>
</Properties>
</file>